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649-302D-436D-B2B3-A72ACDF0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474-AB63-4957-87B9-780DE223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702-4807-494A-898A-3DD473D0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5FC-82F5-403F-970B-1E6011E8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607-A28F-4B43-A58E-247833D9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CD0-269B-4752-817D-01738178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ECE-B3BF-457B-944B-A526B80B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41C-AF62-4EA4-859E-7C9028CC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7C2-3137-4304-9B73-190DF4AF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062-5BFE-4C94-8DB5-33C03B0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0E3-0CB6-444F-BF42-3DDCAB3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CFC-0EBF-402A-BBB4-CBD2526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8CFF-DD02-4577-AAFF-1CA37895B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op-level domai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L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 sometimes referred to as a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op-level domain na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is the last part of an Internet Domain name, that is, the group of letters that follow the final dot of any domain na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 example…..in the URL…..www.googl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 (or COM) is the Top Level Dom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LD’s are generally organized into categories that are established by organizations who oversee management of the Intern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are a few of the most commonly used Top Level Domain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mil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litar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.mil TLD is limited to use by the U.S. mili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.gov</a:t>
            </a:r>
            <a:br>
              <a:rPr sz="22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overn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.gov TLD is limited to U.S. governmental entities and agencies (mostly but not exclusively federa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edu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a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.edu TLD is limited to institutions of lea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.org</a:t>
            </a:r>
            <a:br>
              <a:rPr sz="2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n open TLD; any person or entity is permitted to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1371600" y="228600"/>
            <a:ext cx="6400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com</a:t>
            </a:r>
            <a:br>
              <a:rPr sz="2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ercial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n open TLD; any person or entity is permitted to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10:50Z</dcterms:created>
  <dc:creator>Administrator</dc:creator>
  <dc:description/>
  <dc:language>en-US</dc:language>
  <cp:lastModifiedBy>Administrator</cp:lastModifiedBy>
  <dcterms:modified xsi:type="dcterms:W3CDTF">2009-03-10T18:42:07Z</dcterms:modified>
  <cp:revision>16</cp:revision>
  <dc:subject/>
  <dc:title>A top-level domain (TLD), sometimes referred to as a top-level domain name, is the last part of an Internet Domain name, that is, the group of letters that follow the final dot of any domain name.</dc:title>
</cp:coreProperties>
</file>